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31DB-5B0D-4FE3-8E3C-41FA5DCD9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C129-A3E5-4C1F-ACD3-E930BE3454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6A8-4FA9-4F7D-B98B-C00D6EA0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755-A8FB-4CA7-8038-B2585694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203-F4ED-401F-B8D0-E7EB57D5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D96-D694-4EB2-81C7-7F2F8D7A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A224-8B7C-4CD0-ABAF-548B4BAA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E2E6-0D20-42D8-8930-6DD0DBE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2CC0-B162-4936-BDE0-218514C2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0080-A302-4CCB-93F8-CC64C5CD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BDA3-5059-4A7D-9086-C6CD4C17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BBD-6312-4A4D-A1CA-ABF3720F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6C86-C204-4994-BA7E-A0F5423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235-3E8A-4607-8180-154E4D8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A44C-61F8-4A48-BDFE-5A56A2D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4279-077B-4CCE-B770-F6E0F1F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E64E-4C1D-4F43-A8C3-DA5248BE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CE33-54C7-44FD-B41E-AEAB790A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3C27-6463-41A1-AED3-E38992CA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E3CD-5F7E-427E-944F-FFA862AA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C4EA-50A4-4E53-A0E2-7DCC2E6A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ACB8-224B-4873-A128-D7EE168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FE6C-10D9-4DBE-B7FB-7973BAA4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B607F-7DBD-4D4C-ADDC-894C4FE6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157-18C0-4C49-A906-71BACF23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05B9-3123-42CA-9B3A-281E97EE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4462-BFDF-4AD7-85E7-E1712C4D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D7CB-0A40-4599-8873-E9D8375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9D30-1771-481C-AB96-CF89FA0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14D6-9A2B-4E2E-81A2-0768646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BE97-87BA-47EC-95A3-9582FAE5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51B6-9F90-44E2-92A8-C22AFAD7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23DF-7322-42C1-80EA-B855819D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FC43-405B-4CE9-9A61-4591444D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E468-6739-4B23-B263-10D6C7E1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7EF-AAA9-4EA0-89BC-3607D18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CF30-7FAA-47A7-934D-9F8CD115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ADE5-448A-4EAE-AD85-9D25CFDF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383A-AA79-437B-ADC8-A967151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4821E-A7CA-4686-BA90-4A82BE9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3C9B-3F83-4017-B7DA-8002811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CDAC-88C5-4D42-AEA8-FFCD118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5343-8F8F-4490-B4BC-C260CCBF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E2B4-CF20-4C4D-90E9-B0BE1606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7101-A5BC-4940-9926-B6B5E5EE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7EF8-ACE7-4534-BA6C-548F752E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F48-7615-4995-9B00-A673D86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614A-6D97-4C25-8082-7B0E6293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C4EA-C513-4171-8EB0-4328038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F933-C208-4AB8-BAE4-CA29A651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AF7B-A366-4338-B970-C1AC52B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C28D-2187-4513-9198-98235460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CD4AD-8755-4F00-8184-882721EC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392D-7368-4B2B-9D5D-84788734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96D01-8FFE-4145-9E11-8E4894A5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8FDC-608B-4ED7-B62B-B33BBA3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2A4F-69D7-4E1C-965A-152AF503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B3E-C7A7-4A6A-885D-15DD414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D06D-F13D-4B9C-A1CD-A052966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04D0-D4A2-4E64-81CC-503B8ACE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1285-1194-405B-95D3-4532F1A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67E2-8D03-4F6C-BFAA-1BE2076F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D9762-2F76-4357-8835-6A98AC4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5EC4C-2C0F-48FE-9CD6-EFF1B8FB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D7DF-651C-4C04-9D50-E5CF949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03F7E-17A7-49CE-9D69-9D39D874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DB03-ACD4-4E9B-B6D2-5FB8D10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93E81-6082-4314-B592-B87F75D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4F6-EB9B-408C-AE2A-81A1FAC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D7FC5-E86E-4410-A523-F6083BA3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F9DE-FDD2-41D2-9541-2CFD334C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6A3D-25F5-431D-8334-2B127368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0A3C7-63E7-46D9-BC21-E90CA50C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1AF03-7F55-4A37-BCEE-F21152D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5718-F5C1-43E9-B337-AC035D96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7889-E9B8-49E8-99F3-ECC7723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C5BF-9D05-4C83-802E-8B9C934F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28EDD-C4CA-4416-91DB-1DBCC862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25DD4-88BF-4ABF-B33A-A8A5CF1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ACE-6403-457E-B80C-C61E103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BF401-09F1-489D-84F3-42293C8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A02D9-1512-4CFD-8D06-1A76A23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14DF4-514F-4017-870E-ECBF41B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F60E-AB02-40CC-BB59-FD814E65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590B-BE0A-472A-9110-2C8C6965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A3BFC-7AE9-4D56-B63B-F3E618A3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5726F-D3BC-426B-A733-470B790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1E52C-2C6D-4411-B91D-95CFBC73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463F2-3F37-4375-B0A6-A5557E5A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DE95C-C768-43CE-AD92-F76B780D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099-7E0F-4904-B007-0D66C26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3EEFA-9988-4C02-840D-2E391E4D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A884F-475A-47A3-88E3-A5CCEC8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CF78-B926-4C34-BB2E-2030B05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B1BE-F0D7-4CA6-A3B6-8B7FECE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A7372-5DCB-4257-B242-CCC99454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9B4A0-5590-4916-AE9A-71F91AD0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A13B4-C745-46EE-A799-EB8F9CF0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DE66-4E0E-455E-8559-0DE579349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E631-E7B6-4D53-B3F2-5576110888D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5DFB-3B4D-4019-9645-F95D535EF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6F85-09F9-43C4-93B3-9D262179A8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B12-FDE1-4AF2-9BC0-53F252E2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77F0-9090-44C7-99BD-AF61F926E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ACE-A909-48F4-A0B8-C963AE78897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D4A5-B974-486C-A82A-EB8CAD4DC0A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arliest known cultu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vented atlat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were Nomad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s and most utensils were made of sto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3" descr="http://thedarkblade.com/wp-content/uploads/atlatl-throw3.jpg"/>
          <p:cNvPicPr/>
          <p:nvPr/>
        </p:nvPicPr>
        <p:blipFill>
          <a:blip r:embed="rId2"/>
          <a:stretch/>
        </p:blipFill>
        <p:spPr>
          <a:xfrm>
            <a:off x="3581280" y="4191120"/>
            <a:ext cx="33530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541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rge game started dying, hunting more small ga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d every seas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ry gets small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become more civ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http://www.ohiohistorycentral.org/images/American_Indian_Life_in_the_Late_Woodland_Period.jpg"/>
          <p:cNvPicPr/>
          <p:nvPr/>
        </p:nvPicPr>
        <p:blipFill>
          <a:blip r:embed="rId2"/>
          <a:stretch/>
        </p:blipFill>
        <p:spPr>
          <a:xfrm>
            <a:off x="6172200" y="281952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67920" cy="1541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vers start rece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ople start eating shellfis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uses become more permanen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3" descr="http://www.uvm.edu/place/towns/soburlington/images/archaic-lg.jpg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reated the ax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permanen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ay containers to store food start to be mad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rticulture star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3" descr="http://robertdaffordmurals.com/Galleries/pieces/paducah/archaic_indians_detail1.jpg"/>
          <p:cNvPicPr/>
          <p:nvPr/>
        </p:nvPicPr>
        <p:blipFill>
          <a:blip r:embed="rId2"/>
          <a:stretch/>
        </p:blipFill>
        <p:spPr>
          <a:xfrm>
            <a:off x="5715000" y="3962520"/>
            <a:ext cx="2419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15280" cy="15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madic herders made trib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gan growing food like squash, maize, and pumpk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the bow-and-arr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pottery last longer to store food so they moved very litt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3" descr="fn1p24q.jpg"/>
          <p:cNvPicPr/>
          <p:nvPr/>
        </p:nvPicPr>
        <p:blipFill>
          <a:blip r:embed="rId2"/>
          <a:stretch/>
        </p:blipFill>
        <p:spPr>
          <a:xfrm>
            <a:off x="5562720" y="4572000"/>
            <a:ext cx="2293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44160" cy="15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vanced housing, agriculture, and weapon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erred to as the Temple Mound Ag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ery elaborate religious ceremon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re laid back, most permanent settle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bogota_indians.jpg"/>
          <p:cNvPicPr/>
          <p:nvPr/>
        </p:nvPicPr>
        <p:blipFill>
          <a:blip r:embed="rId2"/>
          <a:stretch/>
        </p:blipFill>
        <p:spPr>
          <a:xfrm>
            <a:off x="5867280" y="4572000"/>
            <a:ext cx="210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3:38Z</dcterms:created>
  <dc:creator>200174951</dc:creator>
  <dc:description/>
  <dc:language>en-US</dc:language>
  <cp:lastModifiedBy>200174951</cp:lastModifiedBy>
  <dcterms:modified xsi:type="dcterms:W3CDTF">2010-09-15T18:04:22Z</dcterms:modified>
  <cp:revision>3</cp:revision>
  <dc:subject/>
  <dc:title>Native People Timeline</dc:title>
</cp:coreProperties>
</file>