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466-B42C-4899-BEB4-9F1060292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D22-8DF8-4C91-B0DE-453C31BAFE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16C-0B75-4DCA-BB77-8BB2ECB5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A1F-8FF3-4854-B090-E8AB97E2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7AE-C00F-470E-90F8-EC74695B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ECC-D7F2-409B-BDCA-7DEA0577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F2E0-B221-4702-88F5-B96F1F14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7D6E-B88C-4FD6-9515-2820CA1F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27ED-C09A-4C7F-8C8E-A71BA9AA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D8C-D9BD-45BE-B4D4-6F6E4A50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578D-C91D-4FE0-B799-CF37EEFE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F9E7-BC28-4C45-9066-29CC048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7B6-0C36-4B37-AD18-EEA0687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D4A-6382-44B3-BF0E-89798D1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0976-6B99-4A14-90D6-CC38B3A0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A38A-1540-4B6A-82C5-67EA039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8FF8-BDA5-462A-A1CD-F5FBF0FA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F7F5-5DB9-4196-BD93-EABF3D12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2A6A-E0D6-48FE-9259-278BB808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CC6A-8FDD-4B38-AFAA-BA128D23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F650F-D1A4-4BF4-B739-3B3E91D4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E2FE-7718-4528-892F-FD81D01D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982F-C5D0-4653-8B7F-55D2E4FA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3783-BF18-4D41-89F1-C0652A31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B74-3E40-436A-A8C2-56D81B0B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F358-C1BC-4743-86E9-ACE68B8D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647F-41E1-4780-8AB7-C5D68A7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0A5E-EB34-436C-9F99-6BBFE27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E91D6-73D1-42BC-88E5-06B54714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3E07-18C5-41A0-823F-C944B0B9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47B71-CDF6-4AF2-B746-62402846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A0C7-A9EA-4289-B922-8358CB6B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B151-A07A-4674-8E64-5249C701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7D8A-40C2-4417-950D-EE5A57E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65DC8-7118-4027-96D4-65E7D3F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208-069A-4FD0-A286-CB41E9C7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EE3E-DEFF-41D9-99FB-85A91257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6B12-E859-471D-8EB1-381B760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13DA-FB80-4E00-8EF6-80FEB581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4B98-3530-4B46-937A-22942B7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4BBE1-4FE9-4E1E-A2A5-7E07B18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98E6-6B84-408D-8977-9DB16D8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2421-54F9-49AF-847F-47D14B9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A68F-70DF-44E7-BE6B-9C75EE75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B27D-9A4B-4181-9D9B-9F462E98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1DAA-E484-4C17-932D-1E5FC0D1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FAC-3940-41A4-971F-D1ACCBA6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BA476-77E6-4BC4-8F5F-8543BE6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D2B7-1AF7-4BC8-8EC5-964E8DFF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2F44-CD9F-4D0A-ABD8-DF63E3CB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CA8D-BCB6-4AB1-9FC3-FBF90E9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F84A-2AE2-4A3A-B711-F67390C1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EC39-D52C-49D3-B0E6-375D6B21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D836-420A-495F-818E-373FE7EE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382CC-3EF1-44AF-8817-21210A1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1BC5-8DC8-486F-AB4E-217B1C9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993B-F2FE-4BD6-8D78-963D39F0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778-0130-435C-9ABF-C366C56C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282A-4958-454D-9C8F-A3B91D13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A22A-0AF2-401C-B0F1-B13DBD76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8BAFB-EDB8-453E-B8C0-B72FB96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2B92C-870D-43BE-8872-5A24F633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8DC6-FFC4-498D-A9B9-7A045EBC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8A8CD-BE9C-4705-A24C-32B4468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6BE4C-D776-4A78-B726-A7858E3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3B608-F03E-4895-A5D1-1212F911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2A2D-6EA6-4C24-8D37-D2BE39D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FA19-8CA0-45D1-8E43-D7B24FB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920-491B-4620-9783-BF78BC6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C581-8A96-4C15-A1CE-8495D041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4687-55ED-414D-85CF-F39529E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1494-93FE-43F5-A015-4CA92166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756B-79D0-4BC3-B81A-8F20CEE9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CF097-8469-4809-920A-7B51D351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0E3A-C29D-4F90-8E26-0B766929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96BD-9349-4E70-969A-52E66C6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5916A-7210-4C8B-A874-0F76B463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CA66-01E1-4B63-B7D5-C4082125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4DF06-996E-44FB-A226-F4849E4B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612-C696-4154-A59D-1E8753C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0C75-F1CC-432C-AE55-174D814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B18B4-2595-4329-A09E-3C4A655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C78E0-1633-42B3-B79D-8DF7832D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2167F-F3BD-424A-9218-93F4DBD6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A8C8B-6DA8-4BC8-9B4C-29683C45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9D33-347F-4AC3-9263-1E45C0D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8C8E-E8CB-4185-93C5-D64B9D0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3851D-E968-41F9-A95C-202FC065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4349-1F0D-4E21-A037-27CBD351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7F9E7-28E2-4AC4-9D04-8C82575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D6AE-702C-4943-BC3E-D957C93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D53C-4EBE-48FB-A7E1-762D7E2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B8DB-13DB-4B62-824A-2E6439D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841ED-9024-40D2-BD08-95CDF81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349E3-BD33-483D-BDD8-EAACE08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A946-84B8-429D-AD61-6F54DC00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35BEE-FDB1-48F9-8356-5492695C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1DD6-240A-4015-B741-1BAB8272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4E6D-D59A-457C-84CB-656E96FEE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52A8-9C71-4C3D-9922-11014556289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96A3-3DB9-4C60-B165-14388C73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D56-FF32-4EAB-8FA7-42EB0DA6AF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F79-DF09-4D67-A010-092896C0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ADC1-9EA8-4302-9BE3-48F2618BB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4984-2B9D-46FC-8220-2C9B4E3CCA8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7380-409B-49A7-A01D-153C01F5FBB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arliest known cultu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vented atlat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were Nomad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s and most utensils were made of sto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3" descr="http://thedarkblade.com/wp-content/uploads/atlatl-throw3.jpg"/>
          <p:cNvPicPr/>
          <p:nvPr/>
        </p:nvPicPr>
        <p:blipFill>
          <a:blip r:embed="rId2"/>
          <a:stretch/>
        </p:blipFill>
        <p:spPr>
          <a:xfrm>
            <a:off x="3581280" y="4191120"/>
            <a:ext cx="33530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541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rge game started dying, hunting more small ga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d every seas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ry gets small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become more civ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http://www.ohiohistorycentral.org/images/American_Indian_Life_in_the_Late_Woodland_Period.jpg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67920" cy="1541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vers start rece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ople start eating shellfis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uses become more permanen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3" descr="http://www.uvm.edu/place/towns/soburlington/images/archaic-lg.jpg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reated the ax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perman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ay containers to store food start to be mad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rticulture star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3" descr="http://robertdaffordmurals.com/Galleries/pieces/paducah/archaic_indians_detail1.jpg"/>
          <p:cNvPicPr/>
          <p:nvPr/>
        </p:nvPicPr>
        <p:blipFill>
          <a:blip r:embed="rId2"/>
          <a:stretch/>
        </p:blipFill>
        <p:spPr>
          <a:xfrm>
            <a:off x="5715000" y="3962520"/>
            <a:ext cx="2419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15280" cy="15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madic herders made trib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gan growing food like squash, maize, and pumpk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the bow-and-arr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pottery last longer to store food so they moved very litt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3" descr="fn1p24q.jpg"/>
          <p:cNvPicPr/>
          <p:nvPr/>
        </p:nvPicPr>
        <p:blipFill>
          <a:blip r:embed="rId2"/>
          <a:stretch/>
        </p:blipFill>
        <p:spPr>
          <a:xfrm>
            <a:off x="5562720" y="4572000"/>
            <a:ext cx="229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44160" cy="15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vanced housing, agriculture, and weapon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erred to as the Temple Mound Ag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ery elaborate religious ceremon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re laid back, most permanent settle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bogota_indians.jpg"/>
          <p:cNvPicPr/>
          <p:nvPr/>
        </p:nvPicPr>
        <p:blipFill>
          <a:blip r:embed="rId2"/>
          <a:stretch/>
        </p:blipFill>
        <p:spPr>
          <a:xfrm>
            <a:off x="5867280" y="4572000"/>
            <a:ext cx="210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3:38Z</dcterms:created>
  <dc:creator>200174951</dc:creator>
  <dc:description/>
  <dc:language>en-US</dc:language>
  <cp:lastModifiedBy>200174951</cp:lastModifiedBy>
  <dcterms:modified xsi:type="dcterms:W3CDTF">2010-09-15T18:04:22Z</dcterms:modified>
  <cp:revision>3</cp:revision>
  <dc:subject/>
  <dc:title>Native People Timeline</dc:title>
</cp:coreProperties>
</file>