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4CBA-51C4-45B5-A87F-B1C364C92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D9D2-1CB8-41C3-9C4E-97BF4FBF0D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C57-A488-4D6D-A188-00E95BC0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284-8E94-4A64-A9A8-CC51FBC6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D06E-00AD-4BB3-8502-DA7D4E3B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6D0-6C1E-4C93-A041-40FC39B4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754A-E835-4AB0-A1FA-A5ADCB8F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BEEA-C4B0-41C3-9605-E7BB8DD3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506A-6288-4ED2-93E1-12099866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78DF-4588-4D5E-9D9B-F23F17BD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C6D5-B875-4DC0-8D47-220D482D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C01A-3A53-4FAA-AE61-A86C9504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B23A-9346-4690-A4C8-AD993F05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851-F342-402A-8572-C576549D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C4BD-0EEA-4B44-B67B-CF3161A3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45AC-9C54-469A-9124-59D0239E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4F89-6C60-45D4-ADA8-EC63C57F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356C-25DD-49BA-A2CD-6E72570E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29E5-9FC7-4E59-9085-67C20AA0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B3352-1A11-4FE2-844C-25B8D0D3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1B20-4790-42DB-9A6C-EC2D3648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87217-3A9E-4576-8A53-C5B2BFA4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D2720-5D45-47B8-9BDA-6ED739DC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D2F1A-B72C-40A1-86D7-46B33D83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8B9-4F11-41A3-9694-BF337A0C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D006A-5DF4-47C0-AFE9-970B861D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310A3-E4A5-4F64-9430-63B5193C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CDDFA-5E85-4156-97F3-4B7931A7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29B5E-9308-47A4-A4DC-B154A0D1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6222E-5D47-458C-84EC-5E9F0584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E98C3-9700-4E1B-97A8-0F9730F5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D04A8-CF2D-46B7-9A91-0D827463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4F57E-1FB5-419A-A406-DE18B315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F69F8-E116-4727-8D09-3742268C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5A95B-3188-4E5F-AC54-319DDA0F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583-BE6C-4AFB-B006-13BD95EA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5BF75-138B-4DD8-AF1B-0B3A9ACD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FD111-2CCB-44A9-B56D-CADF46CD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BD931-5891-4946-BB77-36CB5422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F1BA0-E970-49A0-896C-88B49926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16861-7401-4E00-B98A-BD5690D3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D816A-29AA-444C-AA89-9A18986D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1C8F6-3C00-46C6-BA1B-896B7B76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A0431-3A40-4ACD-A397-33EB162D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1DE99-DCC9-4532-A436-97BFFA51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0F882-1DAA-4F2E-B569-5F472BFB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ABE-E940-4893-B7DA-8C0ED6D9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3614-6F7F-4DB1-8126-E172774B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6900D-0AE8-48C2-94C0-AA33BD35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26389-D00B-4241-891E-8632AD29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AF58C-D899-4BB2-9DCE-BBD15427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E8987-C1EE-4E09-8BD4-881FEDCC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09620-EDFF-4DE8-9C08-4EF3CB4D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04EE0-2E8C-425B-A066-9977B1C7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6D843-EAFC-4922-B4BC-18C70E47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60BD7-1E44-47FD-B7B3-D0E97532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58AD8-9C6B-4640-A74A-858FB289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EDC-9B13-43D9-8458-509395DE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24092-9446-4273-88C2-759B1A7B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8F0B0-725A-4D74-B98F-D54AA61B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BA8AB-4B55-4F74-B52D-B60D2EE8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2C062-42FB-452C-9B65-D3EF0DD5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229AE-9207-45B7-AE13-96D1DA1F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9BA8A-8514-4608-944D-405A0DD7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39687-D1DA-4262-964E-E27050AC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75B22-D7FF-42DA-925C-3E2A614D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98EFA-59EC-4B53-A841-8DB9EA06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5B804-AC5D-4C53-93FC-AC532764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336-E5EA-4C42-9BD7-27E7920C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5E485-CA32-421E-8867-1872D1AD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9A45F-15F2-4A87-A7FD-D69F16C9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78DBA-D07F-440D-BCF3-2AB822AA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B6630-ADBE-4D04-84D7-72405F21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4000E-8004-4D14-B0A2-80E4B815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D17BB-DCAF-41C7-BF2A-49DE623C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F39A4-5823-497E-A0AA-9E8423A4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3574A-A602-411D-8BE1-E1EB344F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B2455-EDD3-4FCF-B86F-0CBC7BDC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42F55-5BCC-42DE-84A3-97A10B74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18A-F166-4795-88BD-63D3B2F8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316AC-682A-447C-9EF2-06B69A1A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C85CA-CAF5-494E-BFC1-9D498CEE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F61E2-36DD-4479-84C1-4D66E20E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F6FFB-EBF0-4566-AC11-214BBD20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EEF41-E23A-4D45-A6CB-2825B5BB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48993-B664-4584-AEAD-20CC6DDA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B615E-6C97-47BF-88ED-5E9D1C83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137B0-7336-4594-92B4-2364FF04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F1B95-AA92-4506-8FC1-BD6F47B4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761FE-C429-48F5-955B-B8AA2A05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CC3-D678-48F6-8D8A-7D695317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969E8-1AAC-45D6-B680-7329B8C4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12C7E-729D-418C-802D-1DC05616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D2CE1-A704-4D7D-8A11-79604BD9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8AF09-7165-401D-B53C-B04E3705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68DE4-B281-4437-BC98-0025855E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6DA97-1FE5-426A-A696-CB61EA15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3D079-3C4F-45E5-9017-37219F39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BE4F-E8CC-4222-90EF-41AA03F04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2A43-F685-4B1D-ABE9-426F29DB12F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3878-C9C7-4242-A4DF-23D68DB07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E921-F27D-4E04-9061-330E9B1CBE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875E-F95F-4AEB-A8DD-245506448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A9E4-9C25-4CB0-9DC7-B8A7917C3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E2FF-C859-4234-BEE0-704C12D9A2F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9F67-9DCD-4FF7-B2EF-A22745AF9FA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53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arliest known cultur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vented atlat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y were Nomadic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apons and most utensils were made of ston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3" descr="http://thedarkblade.com/wp-content/uploads/atlatl-throw3.jpg"/>
          <p:cNvPicPr/>
          <p:nvPr/>
        </p:nvPicPr>
        <p:blipFill>
          <a:blip r:embed="rId2"/>
          <a:stretch/>
        </p:blipFill>
        <p:spPr>
          <a:xfrm>
            <a:off x="3581280" y="4191120"/>
            <a:ext cx="335304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58480" cy="15415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arge game started dying, hunting more small gam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ved every seas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aponry gets small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y become more civiliz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3" descr="http://www.ohiohistorycentral.org/images/American_Indian_Life_in_the_Late_Woodland_Period.jpg"/>
          <p:cNvPicPr/>
          <p:nvPr/>
        </p:nvPicPr>
        <p:blipFill>
          <a:blip r:embed="rId2"/>
          <a:stretch/>
        </p:blipFill>
        <p:spPr>
          <a:xfrm>
            <a:off x="6172200" y="2819520"/>
            <a:ext cx="2971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467920" cy="1541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ivers start receding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eople start eating shellfish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uses become more permanent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2" name="Picture 3" descr="http://www.uvm.edu/place/towns/soburlington/images/archaic-lg.jpg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541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reated the ax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ry permanent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ay containers to store food start to be mad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orticulture start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3" descr="http://robertdaffordmurals.com/Galleries/pieces/paducah/archaic_indians_detail1.jpg"/>
          <p:cNvPicPr/>
          <p:nvPr/>
        </p:nvPicPr>
        <p:blipFill>
          <a:blip r:embed="rId2"/>
          <a:stretch/>
        </p:blipFill>
        <p:spPr>
          <a:xfrm>
            <a:off x="5715000" y="3962520"/>
            <a:ext cx="2419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15280" cy="15415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omadic herders made trib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egan growing food like squash, maize, and pumpki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de the bow-and-arrow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de pottery last longer to store food so they moved very litt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Picture 3" descr="fn1p24q.jpg"/>
          <p:cNvPicPr/>
          <p:nvPr/>
        </p:nvPicPr>
        <p:blipFill>
          <a:blip r:embed="rId2"/>
          <a:stretch/>
        </p:blipFill>
        <p:spPr>
          <a:xfrm>
            <a:off x="5562720" y="4572000"/>
            <a:ext cx="2293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444160" cy="15415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vanced housing, agriculture, and weaponry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ferred to as the Temple Mound Ag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Very elaborate religious ceremoni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re laid back, most permanent settlemen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3" descr="bogota_indians.jpg"/>
          <p:cNvPicPr/>
          <p:nvPr/>
        </p:nvPicPr>
        <p:blipFill>
          <a:blip r:embed="rId2"/>
          <a:stretch/>
        </p:blipFill>
        <p:spPr>
          <a:xfrm>
            <a:off x="5867280" y="4572000"/>
            <a:ext cx="2105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43:38Z</dcterms:created>
  <dc:creator>200174951</dc:creator>
  <dc:description/>
  <dc:language>en-US</dc:language>
  <cp:lastModifiedBy>200174951</cp:lastModifiedBy>
  <dcterms:modified xsi:type="dcterms:W3CDTF">2010-09-15T18:04:22Z</dcterms:modified>
  <cp:revision>3</cp:revision>
  <dc:subject/>
  <dc:title>Native People Timeline</dc:title>
</cp:coreProperties>
</file>