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7CB5-DAEC-4703-8CFA-27A760FCAB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87BF-3BF9-4083-9E8E-802834D7EF6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4767-6407-48DB-88C2-5DA61F1B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99F6-699F-4213-88AB-35C6C481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CF55-CAC7-4962-B5C1-EB6358EC0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DC5E-A5E3-4ED6-9BC9-9C488F0C3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C2B8-67A1-43FD-91DE-0E0E6DF19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8DB2-C6A6-43A6-83DA-6C7FDB9D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C2F2-004E-4C25-9DC2-6C7093F1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BE7F-B248-4340-8B5A-EC87A807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AA7E-9F4B-4350-AC46-6BDC328A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9E85-887D-4DB6-8498-5235F942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020C-3717-479B-B9B4-3A8DFAAD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C5AE-716C-4F70-819B-6AB3B755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BEB0-FD98-44CD-AB2C-F14A39C8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7BC7-60DF-4306-8D60-62B2D03B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10E8-1B75-4BB2-8013-A59F31B5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014F-2736-432A-B18A-AEBC9881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49C1-3939-41F6-ADB9-4EB930628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BFD8D-1B0A-48EA-A0FE-5202A77E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1BAC9-D260-46D8-A56C-83729F2F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03628-72DE-43C8-A2DC-3848D74B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5E82D-0032-4707-8F34-10FB2512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560EC-16AC-4974-A38D-B997DD4F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638B-C696-40E9-83F3-72D928ED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65202-5958-4E98-ACA2-C388CD06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BF00E-DF56-445C-8E23-4152B583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09EDE-D5E3-453B-B65C-E13C73F0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5D6B5-2ECC-42DA-92D9-83551478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81354-AF99-465A-9ED0-2C95E7EA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E3AA0-5F0A-4C5B-9851-63A7676C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02AC4-9C92-4D23-BEA7-F78EB1467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2242A-9280-4016-B644-AA403B754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DF403-CE2C-44F4-903E-5B34E29C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142F4-713D-4330-A891-E18B3855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C65E-F86E-462D-B785-7ED5509E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917A7-23E6-4DE3-A86A-1F66DAE7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CC9FA-289B-4D98-B77C-CDFF0192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39E4D-AAFC-4989-9F31-59D02015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0058C-81AA-40CE-9501-8D01D727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CA9A0-BD55-42C1-B285-FBA6541C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042A3-9F6E-434C-A3EF-2CCEA2AF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DC4B0-FA90-4976-84AB-283BC592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B6BE8-3D90-4DA9-B1E0-AF56A2D22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00F8E-B5A1-420E-BF93-610EA3648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2A61B-925A-4D94-A2D4-6EB9595C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76EC-E93A-4A2E-BB59-4A27D2C0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3A41A-EE79-4F5A-89DA-1BCE4D6B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B87A6-187D-4F76-8E34-B88D4EA6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17203-4D82-4BE4-9372-79C2CA31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E9831-4494-4738-B2AC-AC158AE6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C6EAF-C9AD-4CEB-B55E-6B94CAB5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A7DF3-1F50-4DD2-B572-697EA6EF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2B5D9-8FBF-4FE4-AF6D-523A688F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01FC9-4181-4B92-BE9E-F15BDD68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256D3-1BD8-4D73-A4F6-4B85ABB8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8F323-7C28-4090-AF39-F8A39D8DC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565A-C307-4A0D-A482-86BC8A71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17F36-B922-4541-83C9-B9110F439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0FCB2-3E25-4321-BF9F-4220F320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68E4F-8BEE-4D57-AE7A-CEC527EE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7CDFA-D872-408F-B3F6-D0E14D0B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27B20-383F-41D9-BA90-5E88AEB0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AED2E-7AA9-43D8-A91A-15F9D338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7240A-8D77-4B93-A12F-10706764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3B36A-3911-45CE-BF5F-68A110CC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7BB53-0DA3-4634-9554-5768A33B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666C4-3530-4783-84FF-E428C58B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AE72-5050-4A73-BF24-1A23CDE4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4BA7C-6351-4087-ACEC-8E4B92AD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607C9-014F-47F5-885A-ECF3B832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DB5EA-34EC-4969-85AA-CE1A72A28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4D70C-5ED8-4C7B-859C-DBDC15F55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36AB0-B97F-42A0-9369-3E731AFF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F0FD8-7524-4C50-8CBB-E410B668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F3B77-75FE-425E-87AF-74BD2453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31FF7-2753-43CA-8516-8C38F57D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084D2-49E0-4A7F-B0B0-23FBCCC0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2A2AC-D5C4-4F63-83A1-E83D87D6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9577-5DF0-4606-AE60-EC085361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11FD2-1786-4E03-B09C-10D0DF31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4AEDB-9BB5-420B-8B6D-702DC0B3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02F0A-66B4-459E-AEC2-C382FBE8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5560E-E705-4634-8050-620C363C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2D85F-8290-4791-B123-D734EDEF4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77D19-686D-47C4-9EC9-852FA48CD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17557-33B7-4506-B147-0019C3B4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4EDCC-DACB-4BDC-85B3-4A156F20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0F442-6089-49E6-8E16-3C516CCC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0F60D-5B9F-4E2E-8EDD-5E38FF18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3E65-D13A-43A9-8688-B76BEB8A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8DD90-4DE0-4733-9169-06BFF64F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E684E-592E-49BD-800B-B034BB98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437F1-B97F-49F4-9FC8-ED19D3AE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37B01-4E3E-41DA-BDF8-DF018EC1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FBBF1-9512-4C86-9E19-966DCA0C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A8B0B-0BC0-4411-83E1-8D00D9C0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087C5-A6C0-4CFF-90E1-75B7D440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5658-ED57-4388-96A3-38143178E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B1E2-7DF9-4BD2-A45E-980B68E2A98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A96F-64EB-4EC4-A8B5-277473DC3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6E6A-9B48-4150-812B-F8532631D6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C60F-2F9D-494F-9146-A7556F90F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105F-0577-42EE-8750-DCD309717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CB58-72F2-46A8-A866-3F6BE88532AF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4BA5-DE37-4308-BD2D-4FFB1406AE14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53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arliest known cultur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vented atlatl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y were Nomadic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apons and most utensils were made of ston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6" name="Picture 3" descr="http://thedarkblade.com/wp-content/uploads/atlatl-throw3.jpg"/>
          <p:cNvPicPr/>
          <p:nvPr/>
        </p:nvPicPr>
        <p:blipFill>
          <a:blip r:embed="rId2"/>
          <a:stretch/>
        </p:blipFill>
        <p:spPr>
          <a:xfrm>
            <a:off x="3581280" y="4191120"/>
            <a:ext cx="335304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358480" cy="15415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arge game started dying, hunting more small gam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oved every seaso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aponry gets smaller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y become more civiliz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9" name="Picture 3" descr="http://www.ohiohistorycentral.org/images/American_Indian_Life_in_the_Late_Woodland_Period.jpg"/>
          <p:cNvPicPr/>
          <p:nvPr/>
        </p:nvPicPr>
        <p:blipFill>
          <a:blip r:embed="rId2"/>
          <a:stretch/>
        </p:blipFill>
        <p:spPr>
          <a:xfrm>
            <a:off x="6172200" y="2819520"/>
            <a:ext cx="29718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467920" cy="15415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Rivers start receding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eople start eating shellfish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ouses become more permanent 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2" name="Picture 3" descr="http://www.uvm.edu/place/towns/soburlington/images/archaic-lg.jpg"/>
          <p:cNvPicPr/>
          <p:nvPr/>
        </p:nvPicPr>
        <p:blipFill>
          <a:blip r:embed="rId2"/>
          <a:stretch/>
        </p:blipFill>
        <p:spPr>
          <a:xfrm>
            <a:off x="6095880" y="3809880"/>
            <a:ext cx="2819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15415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reated the axe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Very permanent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ay containers to store food start to be made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Horticulture starts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5" name="Picture 3" descr="http://robertdaffordmurals.com/Galleries/pieces/paducah/archaic_indians_detail1.jpg"/>
          <p:cNvPicPr/>
          <p:nvPr/>
        </p:nvPicPr>
        <p:blipFill>
          <a:blip r:embed="rId2"/>
          <a:stretch/>
        </p:blipFill>
        <p:spPr>
          <a:xfrm>
            <a:off x="5715000" y="3962520"/>
            <a:ext cx="2419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itle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315280" cy="15415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Nomadic herders made tribe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egan growing food like squash, maize, and pumpkin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ade the bow-and-arrow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ade pottery last longer to store food so they moved very litt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8" name="Picture 3" descr="fn1p24q.jpg"/>
          <p:cNvPicPr/>
          <p:nvPr/>
        </p:nvPicPr>
        <p:blipFill>
          <a:blip r:embed="rId2"/>
          <a:stretch/>
        </p:blipFill>
        <p:spPr>
          <a:xfrm>
            <a:off x="5562720" y="4572000"/>
            <a:ext cx="22939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Title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444160" cy="15415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vanced housing, agriculture, and weaponry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Referred to as the Temple Mound Ag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Very elaborate religious ceremonie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ore laid back, most permanent settlement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1" name="Picture 3" descr="bogota_indians.jpg"/>
          <p:cNvPicPr/>
          <p:nvPr/>
        </p:nvPicPr>
        <p:blipFill>
          <a:blip r:embed="rId2"/>
          <a:stretch/>
        </p:blipFill>
        <p:spPr>
          <a:xfrm>
            <a:off x="5867280" y="4572000"/>
            <a:ext cx="2105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7:43:38Z</dcterms:created>
  <dc:creator>200174951</dc:creator>
  <dc:description/>
  <dc:language>en-US</dc:language>
  <cp:lastModifiedBy>200174951</cp:lastModifiedBy>
  <dcterms:modified xsi:type="dcterms:W3CDTF">2010-09-15T18:04:22Z</dcterms:modified>
  <cp:revision>3</cp:revision>
  <dc:subject/>
  <dc:title>Native People Timeline</dc:title>
</cp:coreProperties>
</file>