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6992-6288-4941-95F5-760727BE9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ACF1-104C-4CD5-9303-11257833A0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071-0F41-4D9B-A9B4-79F84A6F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61A-FDC2-4DD4-B0F1-3143067F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986-6000-44D4-A647-64C5FFC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D52-F888-4DD6-A578-D561A737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D14-6F89-4415-B53E-E14AC807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9EF-0EF5-401A-B3B7-FCB21A6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640F-C8AA-46C6-BE6C-7B284E20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00C-BBB9-4213-8613-18B70DF6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2B07-9E57-4C88-9B43-3CACF09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5F12-B4FA-4988-A1F1-6711F7CA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3128-EA2C-4298-8B49-2A32B70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60B-8453-4694-AB8C-F0FEBBB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155-2F41-489F-83CE-FA6D1C5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20D-9366-4326-86F9-6B77FAE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E00-8C86-4689-9F41-E7205DB7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688B-FEDE-47DF-9C18-82F3C508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A199-FEAE-47B5-85FA-DD875318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2BC0-76DB-4477-9429-1C0BE6A2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2B36-FB0C-4E74-8F9D-FC44FF4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183C-ECDA-45DF-A5EF-5C2304E2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F7AE-CDA0-4833-84ED-7F1D90C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8E69-5194-431E-B122-C20AC13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64B-E778-40FE-8B52-3EF310D5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311C-DDFD-4919-922D-9D12D7B6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7650-134F-4E38-AEC7-D39DEA7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AC93-983A-416D-A0A3-9303421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CBFF-F07B-44FE-9F94-D19D25F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6206-8CB1-4991-A37E-05B7395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F422-0280-45E0-9E80-44D8D40E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8B35-6813-4CA3-9E66-98501AA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5AC7-DF9F-4DA3-8C6C-E108C0C0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2544-0870-4B5B-BD26-AAD08F39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E959-7FA4-42E3-82D2-CB887FC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012-D2AB-43EA-A066-9210A3FC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97B1-A134-4630-A83F-B1BD844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CB24-F11B-4C0B-83EA-77DBBF8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3931-1C6F-45DF-AA6D-4EF9CA2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EE17-B30E-450E-BB19-C00FF89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89DB-4DB0-409E-9EF1-B5F5C244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D9C6-832E-45B0-851B-4E587F0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2087-B784-4CB7-9EE7-2DA6771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FB01-2F36-4532-8C1C-561CE5C6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87B8-FE59-4514-B1DE-F2216407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118A-7C70-444D-B540-FDAE13AE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A13-ADA9-465D-94E6-D8E7971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1A11-C482-484F-BD88-057127A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F380-53D3-4C40-A4EA-00391D52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6875-58A9-4099-80F8-59EA7758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8D13-DA66-4E7D-B662-496480E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BC0C-A3F2-4053-ABA8-D9BC11C1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5ADF-E0A8-470A-9130-48375DF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8805F-0A62-48E5-9673-3481066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4505-62EA-468A-B0B0-311FE2D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D3BE-87DB-481C-8DC2-FD4BA886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0D7FF-795E-4F66-99FD-FBF89788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892-B98A-47D2-84B3-AC59980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F260-3527-497C-8365-E01DBA60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4329D-B79C-4898-B0D6-7DB9DFE1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A0D4-D837-44C1-8FA5-63E720E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848B-71AE-44A0-9932-4154E7B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249D-A05D-4EE8-A760-CC9893F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F664E-642E-4DBD-A8B1-F15C409F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C951-0B02-4C28-9347-184069B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AD4E-13B6-4777-91D4-663761A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6304-8F8A-4EB0-84D5-02796A3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B44BB-52E2-4ED5-A2D5-69552A2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E52-D35F-4D80-BC3E-2CE9E42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E4374-2589-40B5-BDCE-41FFB40F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B782-7999-4B47-9AF6-6962B981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5B818-46DA-45E0-84FC-FB9B534E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B535-0C62-4D7E-B1AA-86BA67CC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4AA4-7278-452D-B47F-297794F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D6C13-8B7F-4BA2-AEE4-2D66C68C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92E1-0474-4107-A46D-4F57D73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A04D5-802F-4583-BF91-76CEF93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71FB-8FA5-4B36-8502-B0A2EB5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9982-D1D8-429E-95AE-BE2264E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386-0859-4DF8-AC58-2315A6BE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91421-C734-470C-A420-39D3ACBB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C23FB-DFE5-42E8-A3A1-C711043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735A-3622-4F71-A7BE-76BC7E55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EBEC-957D-4E0A-AF66-6657ADA2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4904A-EF8A-4187-92B0-355C7B02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B0D8-48D0-4D62-8FC5-45EA11B3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C02E3-014F-4F8D-A7D5-A0634D8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F655-D546-4079-B2D2-1A0800E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065B-EF99-47B2-B66C-5A4D9B2C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AA9EE-98EE-4E52-B476-BD890A8F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95F-8D39-491D-B2DA-8480DD3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EF49-B7AA-417F-900A-0D03FAA8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04BF9-90E8-4561-ADFD-30C1FBC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48ABD-2C9C-4B64-9DA8-34F4923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F744-F74A-492E-80C7-3689585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FFD3-D7C2-4632-9E6C-D43CAB4D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3C81-44EE-46BF-9207-6D3A84DD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8884-C90F-4EDF-949A-779F70B5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85A8-A39C-4B2E-B00A-B584FFD8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3E92-530F-439F-AC0D-DD2611318D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C3F-A76F-4CF8-9549-BAD937D0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34CA-678F-4C51-8601-B9EC049EAE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C89E-8EE2-42BD-AAA3-8171DAE67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18D-8BCF-443D-97DB-0CD376D2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8D1-B869-47AC-88BD-A6948D44AFA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DFB-0C5A-44A6-8366-493CFD1C1EB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arliest known cultu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vented atlat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were Nomad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s and most utensils were made of sto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3" descr="http://thedarkblade.com/wp-content/uploads/atlatl-throw3.jpg"/>
          <p:cNvPicPr/>
          <p:nvPr/>
        </p:nvPicPr>
        <p:blipFill>
          <a:blip r:embed="rId2"/>
          <a:stretch/>
        </p:blipFill>
        <p:spPr>
          <a:xfrm>
            <a:off x="3581280" y="4191120"/>
            <a:ext cx="33530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541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rge game started dying, hunting more small ga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d every seas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ry gets small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become more civ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http://www.ohiohistorycentral.org/images/American_Indian_Life_in_the_Late_Woodland_Period.jpg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67920" cy="1541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vers start rece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ople start eating shellfis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uses become more permanen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3" descr="http://www.uvm.edu/place/towns/soburlington/images/archaic-lg.jpg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reated the ax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perman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ay containers to store food start to be mad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rticulture star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3" descr="http://robertdaffordmurals.com/Galleries/pieces/paducah/archaic_indians_detail1.jpg"/>
          <p:cNvPicPr/>
          <p:nvPr/>
        </p:nvPicPr>
        <p:blipFill>
          <a:blip r:embed="rId2"/>
          <a:stretch/>
        </p:blipFill>
        <p:spPr>
          <a:xfrm>
            <a:off x="5715000" y="3962520"/>
            <a:ext cx="2419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15280" cy="15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madic herders made trib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gan growing food like squash, maize, and pumpk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the bow-and-arr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pottery last longer to store food so they moved very litt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3" descr="fn1p24q.jpg"/>
          <p:cNvPicPr/>
          <p:nvPr/>
        </p:nvPicPr>
        <p:blipFill>
          <a:blip r:embed="rId2"/>
          <a:stretch/>
        </p:blipFill>
        <p:spPr>
          <a:xfrm>
            <a:off x="5562720" y="4572000"/>
            <a:ext cx="229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44160" cy="15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vanced housing, agriculture, and weapon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erred to as the Temple Mound Ag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ery elaborate religious ceremon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re laid back, most permanent settle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bogota_indians.jpg"/>
          <p:cNvPicPr/>
          <p:nvPr/>
        </p:nvPicPr>
        <p:blipFill>
          <a:blip r:embed="rId2"/>
          <a:stretch/>
        </p:blipFill>
        <p:spPr>
          <a:xfrm>
            <a:off x="5867280" y="4572000"/>
            <a:ext cx="210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3:38Z</dcterms:created>
  <dc:creator>200174951</dc:creator>
  <dc:description/>
  <dc:language>en-US</dc:language>
  <cp:lastModifiedBy>200174951</cp:lastModifiedBy>
  <dcterms:modified xsi:type="dcterms:W3CDTF">2010-09-15T18:04:22Z</dcterms:modified>
  <cp:revision>3</cp:revision>
  <dc:subject/>
  <dc:title>Native People Timeline</dc:title>
</cp:coreProperties>
</file>