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0BDD-1737-41D3-BD91-E5CA7DE5C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EA95-4E5F-4F42-A296-6B53F4C9A9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C82-3C2F-49EA-9A52-9B5552D1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1A0-0FA9-4BF9-B236-30AF75A7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5A8-7956-48F9-800F-09D091F2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59C-6D9A-4C0C-8FE3-032D5730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331-ECC3-49A3-A095-8E238A4F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4614-5525-4219-9951-9941AA9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60F5-91F3-49C2-B546-82F52817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04C1-5894-4040-A4FD-B6ED8C61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8CCA-493E-4482-85C6-3F1849B9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5B93-DC35-4A5E-9E99-2D22F747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B847-742F-4D5C-A3F7-C2AF48F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5C5-2630-4B4C-AD1C-A1115A09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AC5-5A82-4D45-96C5-EEFB52B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AC7-E25C-4A74-8FE8-FA71B694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41EF-692C-4887-A2CA-D85BBEAA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6528-D024-4C3A-A3C2-A79CE0EA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C989-6D73-49D0-BCC8-13BFAACD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F7FB-C069-4BB9-881D-6B5242DC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7ACD-03D6-4F73-871C-30403CD9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2CC9-4335-438C-833E-052514C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AF25-C158-4B18-9142-EA79FB7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8CA9-FB12-4348-9B6B-8A925F9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E54-B1B6-4337-8112-F205F4CD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D9DE-DBD6-4549-92C1-9F153FA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3767-D3CF-4B58-9187-6A04608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82A1-113F-4234-A6A5-5542B371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79429-25CC-43F4-9364-E21C9543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B0570-0B12-41B9-9600-0522F73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6A57-EA4C-4A49-B578-7CB487AD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09D6-F9D8-47E8-954F-0EC4318A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CE0E-3C56-40C9-BDC8-D1695456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4AC7-F053-444D-B23D-E4ED58F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C307-5D6C-405F-91DF-3F82D01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408-2E12-48C3-BF66-2A5D250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BBDF6-BC0F-4A94-A160-0F72063A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D7563-FC32-48EF-A86E-D082250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9209-1B4C-460B-8D48-3403818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B6507-9CE5-470D-87E0-D5A94B2E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1691-A38E-47B2-814B-1CB5BAC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5AA2-A29D-43C3-80FF-D2AACBE0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1460-1BBA-41E3-B577-D5AE637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CBD2-3B13-431A-9F54-B479D07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E914-2FC5-41F2-8B24-D5EF54C8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F2B1-2772-43FC-A04C-0D3E989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DEB-342C-4600-AEF9-E9756FC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71309-5155-431A-853B-93F3A68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5EA2F-11CF-4597-934C-844EDB0D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AE5A-A158-487B-A09F-E9C26644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13A4-A974-4773-9EF3-0E87E46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121AD-1F06-46F6-B742-A399D564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7E91-452D-4D3E-AC7B-218DA8DB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3003-7CA0-4C24-80F4-1153A16C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590B-831D-45E5-8CD3-153DA67B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A1E4-7AAA-4981-88FA-44AB6B52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0015-9B5F-446D-8850-66425B89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380-8D2C-42E1-BE3F-5566E7D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3008-4EC7-4C1B-B24D-C25BCCEB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8577-F6C2-4CB1-B2DF-D967CAFA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0468-9A44-4690-B042-9A8B08E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9BE28-AB56-4363-9517-0E65C2A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EB68-CD77-44DD-B5A1-6E18F494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74B5-E936-478F-B84F-597802E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3E205-FF59-445B-BF69-65BB4AA0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9577-3A76-4AFE-B9A0-04A469B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9988-5E71-41CE-901C-4B87F85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57251-71ED-4165-A6E8-8AB09193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D2B-C3CA-4840-AB32-E449053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1030E-4215-4ACB-A93D-7544F02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DCAA-1FA4-4EB9-BE45-F51BD6D3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46B5-1C43-4D55-9100-2AB1A92B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CC20-BC89-4C9F-8AA2-227E6E95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20C91-E97F-4A18-990A-0F2B0900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6261-E672-473A-8381-9805BEA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A429-9E07-4315-9DEB-AF822E4C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397E9-F553-4A5C-AA72-30A57C08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A4F0-8F21-4067-A505-520663B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71BC-9077-4C4B-A81C-17CE370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AC8-5BF0-467C-8D2C-D51BA98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50CA6-4FDC-4365-82CF-8C9AA93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C11D-A634-4FF6-9998-914C3A9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E3FAE-178D-4895-9C7E-3A053EC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7680-ED4E-424D-BC5A-B21FFD62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4AAB2-F57B-4C03-8618-8CA9362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84F32-6227-41E3-B4F0-821B0631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7636B-440B-4F70-8AD9-7F5E075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0F00-8FCE-4E93-8D2F-897182D2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8F782-A2B2-4FB1-AC1E-1FEE4080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0E193-58DF-4D21-B3E7-8BDB9006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15E-149D-4C38-9FE2-4766936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5F68-E26A-4E34-9CDD-ED9804C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2F939-9FA0-4623-AE40-B8511CEE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55C7-5475-42DE-8B4F-2AEF794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3027E-9D43-4874-BA36-9BA13B3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5B38-CF1B-4204-A70D-CAA2DBA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EB5A-0E3C-4BA1-A508-53186A60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4F776-00AD-4B69-BA96-72048D4C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FF2-2DFD-4F59-9C16-2548DF203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EB1B-B795-428B-B84B-71A2FAD37C8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4F6-F97F-403F-8B8F-1D5C0B735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5A5-9F49-407B-8972-6A13A4BFA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FC21-B5C5-48E0-A1A9-C2E994626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64B-4D14-40F8-878D-9618228C4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D53-EAEC-4A81-92F0-E23F6B19E7E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79A-60F3-47F7-971B-62E968F1C85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arliest known cultu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vented atlat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were Nomadic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s and most utensils were made of ston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3" descr="http://thedarkblade.com/wp-content/uploads/atlatl-throw3.jpg"/>
          <p:cNvPicPr/>
          <p:nvPr/>
        </p:nvPicPr>
        <p:blipFill>
          <a:blip r:embed="rId2"/>
          <a:stretch/>
        </p:blipFill>
        <p:spPr>
          <a:xfrm>
            <a:off x="3581280" y="4191120"/>
            <a:ext cx="33530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5415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rge game started dying, hunting more small ga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ved every seas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aponry gets small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y become more civiliz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http://www.ohiohistorycentral.org/images/American_Indian_Life_in_the_Late_Woodland_Period.jpg"/>
          <p:cNvPicPr/>
          <p:nvPr/>
        </p:nvPicPr>
        <p:blipFill>
          <a:blip r:embed="rId2"/>
          <a:stretch/>
        </p:blipFill>
        <p:spPr>
          <a:xfrm>
            <a:off x="6172200" y="281952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67920" cy="1541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ivers start rece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ople start eating shellfish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uses become more permanent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3" descr="http://www.uvm.edu/place/towns/soburlington/images/archaic-lg.jpg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reated the ax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ry perman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ay containers to store food start to be mad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rticulture star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3" descr="http://robertdaffordmurals.com/Galleries/pieces/paducah/archaic_indians_detail1.jpg"/>
          <p:cNvPicPr/>
          <p:nvPr/>
        </p:nvPicPr>
        <p:blipFill>
          <a:blip r:embed="rId2"/>
          <a:stretch/>
        </p:blipFill>
        <p:spPr>
          <a:xfrm>
            <a:off x="5715000" y="3962520"/>
            <a:ext cx="2419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15280" cy="15415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madic herders made trib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egan growing food like squash, maize, and pumpki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the bow-and-arr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de pottery last longer to store food so they moved very litt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3" descr="fn1p24q.jpg"/>
          <p:cNvPicPr/>
          <p:nvPr/>
        </p:nvPicPr>
        <p:blipFill>
          <a:blip r:embed="rId2"/>
          <a:stretch/>
        </p:blipFill>
        <p:spPr>
          <a:xfrm>
            <a:off x="5562720" y="4572000"/>
            <a:ext cx="2293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444160" cy="15415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vanced housing, agriculture, and weapon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erred to as the Temple Mound Ag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Very elaborate religious ceremoni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ore laid back, most permanent settle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bogota_indians.jpg"/>
          <p:cNvPicPr/>
          <p:nvPr/>
        </p:nvPicPr>
        <p:blipFill>
          <a:blip r:embed="rId2"/>
          <a:stretch/>
        </p:blipFill>
        <p:spPr>
          <a:xfrm>
            <a:off x="5867280" y="4572000"/>
            <a:ext cx="210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43:38Z</dcterms:created>
  <dc:creator>200174951</dc:creator>
  <dc:description/>
  <dc:language>en-US</dc:language>
  <cp:lastModifiedBy>200174951</cp:lastModifiedBy>
  <dcterms:modified xsi:type="dcterms:W3CDTF">2010-09-15T18:04:22Z</dcterms:modified>
  <cp:revision>3</cp:revision>
  <dc:subject/>
  <dc:title>Native People Timeline</dc:title>
</cp:coreProperties>
</file>