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A3409-1740-4BDF-8297-25218ABEE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25261-0DDA-4631-A6A0-6C0E442E7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62189-C516-4CE8-9A5F-6157D4FDF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E9AB4-370A-4558-9A3D-0F0880F68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DFA13A-00EB-4236-9E26-7C88DAD096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E6412-D80A-4516-A3F3-D59BE0818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F199E-09BD-4FCB-A85F-F8EB3E829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F8520-3AA9-4340-B9ED-349479287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88E7D-B675-4424-B146-D81B31B22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F3354-B64D-4B5F-AE02-C78F1D5C7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CA6EB-C3BE-41C6-AC89-90185F363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05F45-29AB-487C-9282-4AB228B7D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39BF3-8C2A-4D34-ACDC-983FAE8A7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2924F-AA99-4417-A5D7-50EE2795E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4265F-FC22-4893-B90C-3D90A53C2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E40AA7-19AD-4F20-A629-EFBBA4427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416C8-385D-4501-86C3-9C6C68B00C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48578A-095F-4F44-89AE-5AC982A9B8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AA2FCD-9764-43AB-B947-010511C04E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D20D16-83A2-4531-AD44-F1A3467F7E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FAC477-CE43-424B-B779-30F0E0CB79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B25CE4-ED21-464E-AA0B-6A4972CBC6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08750-56E6-49B9-AD36-D244F9435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306A88-9246-42A1-8847-927F49707A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286095-D90B-4762-A764-03E8686A68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8F2BA5-4BBC-426F-AB2E-DA9122D2A3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FE366-F4ED-4FFB-8B61-6A9563BFD5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06231C-4D8C-41E3-85FE-E3604CD1E9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985974-F473-4BBA-9B51-C47DB622D6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99BFB6-FB0A-47E2-BAFE-51FD9C838B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E99AA5-EAE9-43F6-A808-39CD649E2F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978500-3D24-4719-8091-60DDE087AD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D751B6-C636-4294-8EFB-F2A7965D85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3AF87-EB6A-4B64-9EBC-6CE3954B2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EB9F61-10E6-4577-9118-2F2F1E98D5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A10233-E1C3-457C-96A1-A71B8C4670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946607-5D8C-4C45-9E1F-025777BFA2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19CF30-C321-43B7-98CC-DBF1AD95DC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E131C5-2F4D-48BE-9475-37A6841412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09D549-3A5F-42E1-BAE9-C0C81CF2D2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1AA3AC-F129-4FA5-83A2-0FDEB7550D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1C5A1E-7DCA-471A-A71F-82B527F84B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C707C9-E8F8-4373-B44F-F455824861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BFF0EA-F5F7-4B8B-8421-C206766A83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49C07-65F2-4FDE-A5D2-A5BF6C803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01FAA0-7F48-4F91-839C-B752884954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32D235-F4F1-4855-AA1C-04629CE9A4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2F39E9-94EE-45AD-96AF-4A244D886A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4FAF68-61D2-4A31-B9A2-C0D8F203AB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F41B16-E946-4682-8A89-8A7035334D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3DF30D-A4ED-488F-A69E-59A967D415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4A5564-B395-422D-81EE-050BDF7782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32F66F-4678-435F-B0F0-CB8EBC7F13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F2985D-43C0-48D5-9039-2A76D45F40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262F00-65D6-4018-8A0E-29A9015A08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9FF89-ADFC-46C8-A10A-1EDA64A38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34FF34-646B-4496-8234-A41742EDD6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63CC4D-E2C8-45A7-8067-DB31E6A18F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3C6B41-9F55-4885-AAB7-8E3DA8BD7E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648BF7-DDB1-4EA8-87DE-077C3F9CC0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7185CD-367A-48A4-B8EF-0F0724ABE0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CB86F2-AEFA-42A2-B95D-0B25861485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5240DE-0A5D-4A37-AE2D-FD5A9224BF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2FB6A6-A87D-44FB-828C-86E5CCB7F5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497D2B-E8FF-4E4D-8E4E-4E0E64475D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AD4785-2106-4FA5-80A9-644418B038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47177-8D44-4F15-940F-A665D44B9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1D80F5-6392-4FCA-B4BA-BD2AA9FA23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BC6ABB-E14F-403F-9ACB-4D21BA1A90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DFA766-B6BE-4D09-B03E-C41C60A019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D3D921-53B6-4D9B-838D-015C0721D8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3F2F68-CC8B-42FD-AD06-60DE33EFED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DC67F9-20E2-4E92-B33E-59169F0829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A0164E-4CC1-460F-A353-6DB3D06CDD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A6B2FE-D7B8-4D1C-8EAD-2ABEA35E7F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C4AAB5-584A-4D12-8A64-6F2152743E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2E3BD7-63C7-4D50-AD86-8C2FFD850A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569EC-59CB-43EF-AE7F-F28561122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1B74FB-5FD4-40A4-ABF2-798FBCE3E5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DCD182-3461-421C-B974-162695E179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CB9B90-A858-4DC5-BF04-4D1AE527E0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F2549B-DF46-437D-84F9-9F220499BF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B1E507-48A4-44C4-B45A-6B40BA6988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F0AEA-6410-479C-95B4-27CD4012C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86E7-932F-445F-9217-ABC2529156A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6ECA-A041-4C93-A1F5-7863F56DF27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08FC-9F9E-4C34-BAAD-53A785ACBC9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F424-3543-4505-B9A7-19F27859651A}"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9CB3-7F66-4089-898D-9AFF46C9381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077A-69C7-45EC-81C3-DCA43DF183D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9DBC-0A40-4BCC-99B4-8FD3AB07466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file:///Buzz%20Lightyear%20Crime%20Scene%20Lab.ppt"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By: Mick Sumner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89000" y="152280"/>
            <a:ext cx="8504280" cy="1262160"/>
          </a:xfrm>
          <a:prstGeom prst="rect">
            <a:avLst/>
          </a:prstGeom>
          <a:ln w="0">
            <a:noFill/>
          </a:ln>
        </p:spPr>
      </p:pic>
      <p:graphicFrame>
        <p:nvGraphicFramePr>
          <p:cNvPr id="322" name=""/>
          <p:cNvGraphicFramePr/>
          <p:nvPr/>
        </p:nvGraphicFramePr>
        <p:xfrm>
          <a:off x="457200" y="1600200"/>
          <a:ext cx="8345520" cy="3505320"/>
        </p:xfrm>
        <a:graphic>
          <a:graphicData uri="http://schemas.openxmlformats.org/drawingml/2006/table">
            <a:tbl>
              <a:tblPr/>
              <a:tblGrid>
                <a:gridCol w="1371600"/>
                <a:gridCol w="1371600"/>
                <a:gridCol w="1371600"/>
                <a:gridCol w="1371600"/>
                <a:gridCol w="1487520"/>
                <a:gridCol w="13716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Wra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en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Malle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last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8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 or 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lumin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2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licks of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Zin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opp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ronz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3.5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n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25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ulf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3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 it brea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Liqu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89000" y="152280"/>
            <a:ext cx="8504280" cy="126216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n Mick compared all of the data he found that the mystery substance matched the data of zinc. The big give away for him was the density.</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189000" y="152280"/>
            <a:ext cx="8504280" cy="1262160"/>
          </a:xfrm>
          <a:prstGeom prst="rect">
            <a:avLst/>
          </a:prstGeom>
          <a:ln w="0">
            <a:noFill/>
          </a:ln>
        </p:spPr>
      </p:pic>
      <p:graphicFrame>
        <p:nvGraphicFramePr>
          <p:cNvPr id="326" name=""/>
          <p:cNvGraphicFramePr/>
          <p:nvPr/>
        </p:nvGraphicFramePr>
        <p:xfrm>
          <a:off x="457200" y="1600200"/>
          <a:ext cx="8345520" cy="3749760"/>
        </p:xfrm>
        <a:graphic>
          <a:graphicData uri="http://schemas.openxmlformats.org/drawingml/2006/table">
            <a:tbl>
              <a:tblPr/>
              <a:tblGrid>
                <a:gridCol w="1371600"/>
                <a:gridCol w="1371600"/>
                <a:gridCol w="1371600"/>
                <a:gridCol w="1487520"/>
                <a:gridCol w="1371600"/>
                <a:gridCol w="137160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Hotd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re-squeezed m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ost-squeezed m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en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or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9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8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01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dark 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igh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7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001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 noticeable ch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98% fat-fre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1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5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brow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hotd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1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01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dark 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189000" y="152280"/>
            <a:ext cx="8504280" cy="126216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n Mick compared results he saw that the crime scene hotdog data matched the plain pork hotdog. He saw that they had all of the same result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189000" y="152280"/>
            <a:ext cx="8504280" cy="1262160"/>
          </a:xfrm>
          <a:prstGeom prst="rect">
            <a:avLst/>
          </a:prstGeom>
          <a:ln w="0">
            <a:noFill/>
          </a:ln>
        </p:spPr>
      </p:pic>
      <p:sp>
        <p:nvSpPr>
          <p:cNvPr id="330"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nsity-1. got the objects mass              Malleable- 1. bent metal             </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2. got the objects volume</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3. divided mass by volume</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nductivity-1. placed the conductivity meter on and read the lights.</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uster-1. saw how shiny it was</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activity-1. used something to get a reaction</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olubility-1. poured water to see if it dissolved.</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189000" y="152280"/>
            <a:ext cx="8504280" cy="1262160"/>
          </a:xfrm>
          <a:prstGeom prst="rect">
            <a:avLst/>
          </a:prstGeom>
          <a:ln w="0">
            <a:noFill/>
          </a:ln>
        </p:spPr>
      </p:pic>
      <p:sp>
        <p:nvSpPr>
          <p:cNvPr id="33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Corbel"/>
                <a:hlinkClick r:id="rId2"/>
              </a:rPr>
              <a:t>http://www.sciencedaily.com/releases/2008/06/080602103331.htm</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89000" y="152280"/>
            <a:ext cx="8504280" cy="126216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 the end Mick and his class saw that the crime scene objects all matched the objects that Sponge-Bob Square-Pants. He and his classmates know this because he has pork, zinc, sucrose, and wate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Buzz Lightyear, a beloved character from Disney was found poisoned by one of twenty suspects. He and Woody were starting a cooking show and invited other cartoons to join. The cartoons had to bring four main items. Mick’s class ran tests to find the crime scene of each item. They ran tests on all of the four things which are:</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liquid for a drink</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white powder for a desert</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ny of three types of hotdog</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wrap to put the hotdog in</a:t>
            </a:r>
            <a:endParaRPr b="0" lang="en-US" sz="24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class ran many tests on these and finally found the answer.</a:t>
            </a:r>
            <a:endParaRPr b="0" lang="en-US" sz="2400" spc="-1" strike="noStrike">
              <a:solidFill>
                <a:srgbClr val="000000"/>
              </a:solidFill>
              <a:latin typeface="Corbel"/>
            </a:endParaRPr>
          </a:p>
          <a:p>
            <a:pPr marL="411480" indent="-299520">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ick had a hypothesis as to who did it. His hypothesis was that it was Luke Skywalker. He thought this because the things that Luke brought which were, salt water, aluminum, sodium polyacrylate, and a ft free hot-dog, looked like the things he found at the crime scen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46160"/>
            <a:ext cx="8504280" cy="1261800"/>
          </a:xfrm>
          <a:prstGeom prst="rect">
            <a:avLst/>
          </a:prstGeom>
          <a:ln w="0">
            <a:noFill/>
          </a:ln>
        </p:spPr>
      </p:pic>
      <p:pic>
        <p:nvPicPr>
          <p:cNvPr id="310" name="TextBox 3" descr=""/>
          <p:cNvPicPr/>
          <p:nvPr/>
        </p:nvPicPr>
        <p:blipFill>
          <a:blip r:embed="rId2"/>
          <a:stretch/>
        </p:blipFill>
        <p:spPr>
          <a:xfrm>
            <a:off x="1365120" y="1773360"/>
            <a:ext cx="5784840" cy="40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52280"/>
            <a:ext cx="8504280" cy="126216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and lenses, triple beam balance, spoons, stirring rods, matches, paper cups, iodine, hot plates,  well-plate, beakers, eyedroppers, sodium bicarbonate, conductivity meters, graduated cylinder, hydrochloric acid, goggles, forcep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189000" y="-36360"/>
            <a:ext cx="8504280" cy="1036440"/>
          </a:xfrm>
          <a:prstGeom prst="rect">
            <a:avLst/>
          </a:prstGeom>
          <a:ln w="0">
            <a:noFill/>
          </a:ln>
        </p:spPr>
      </p:pic>
      <p:graphicFrame>
        <p:nvGraphicFramePr>
          <p:cNvPr id="314" name=""/>
          <p:cNvGraphicFramePr/>
          <p:nvPr/>
        </p:nvGraphicFramePr>
        <p:xfrm>
          <a:off x="82440" y="914400"/>
          <a:ext cx="9061560" cy="5673600"/>
        </p:xfrm>
        <a:graphic>
          <a:graphicData uri="http://schemas.openxmlformats.org/drawingml/2006/table">
            <a:tbl>
              <a:tblPr/>
              <a:tblGrid>
                <a:gridCol w="1175040"/>
                <a:gridCol w="1176120"/>
                <a:gridCol w="1174680"/>
                <a:gridCol w="1176480"/>
                <a:gridCol w="1487520"/>
                <a:gridCol w="1176120"/>
                <a:gridCol w="16956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rin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en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O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lamm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Rea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lcoh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loats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trong Sme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ow or 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Rea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alt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ineg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slightly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azy 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trong o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xtreme Bubbl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Gra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slightly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weet grape o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izz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emona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l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weet sme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Liqu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rea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89000" y="152280"/>
            <a:ext cx="8504280" cy="126216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fter comparing all of the evidence Mick figured out that the crime scene drink had to be water. He knew this because all the tests matched up and he also knew the density of water was on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89000" y="152280"/>
            <a:ext cx="8504280" cy="1262160"/>
          </a:xfrm>
          <a:prstGeom prst="rect">
            <a:avLst/>
          </a:prstGeom>
          <a:ln w="0">
            <a:noFill/>
          </a:ln>
        </p:spPr>
      </p:pic>
      <p:graphicFrame>
        <p:nvGraphicFramePr>
          <p:cNvPr id="318" name=""/>
          <p:cNvGraphicFramePr/>
          <p:nvPr/>
        </p:nvGraphicFramePr>
        <p:xfrm>
          <a:off x="228600" y="1600200"/>
          <a:ext cx="8675640" cy="3941640"/>
        </p:xfrm>
        <a:graphic>
          <a:graphicData uri="http://schemas.openxmlformats.org/drawingml/2006/table">
            <a:tbl>
              <a:tblPr/>
              <a:tblGrid>
                <a:gridCol w="1371600"/>
                <a:gridCol w="1371600"/>
                <a:gridCol w="1487520"/>
                <a:gridCol w="1519200"/>
                <a:gridCol w="1371600"/>
                <a:gridCol w="15541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ow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Solubilit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Mel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lamm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ucro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aking So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 a l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yel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odium Polyacryl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 Mix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um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od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scorbic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aste li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Pow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89000" y="152280"/>
            <a:ext cx="8504280" cy="126216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fter comparing all of the data Mick gained he came to the conclusion that the substance had to be sucrose because he saw that all of the tests matched the crime scene powde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8:18:24Z</dcterms:created>
  <dc:creator>200174951</dc:creator>
  <dc:description/>
  <dc:language>en-US</dc:language>
  <cp:lastModifiedBy>200174951</cp:lastModifiedBy>
  <dcterms:modified xsi:type="dcterms:W3CDTF">2010-10-06T13:14:20Z</dcterms:modified>
  <cp:revision>15</cp:revision>
  <dc:subject/>
  <dc:title>Buzz Lightyear Crime Scene Lab</dc:title>
</cp:coreProperties>
</file>