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7DC44-29A7-44D5-A3A2-2990C297E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DEE4-B51C-4469-BFF9-CEF27CA2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BA848-6407-4A9E-8B56-588CFAFD0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2DA1-4AAA-4083-A18D-A480D1D8C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F383A-6514-45D5-AD8C-F029A2740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86787-D6CB-4C84-BA56-FB79FCB6F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23E66-31BC-4A3A-B636-5DFB7151F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345A-A1F0-437D-91F5-F2B14CE18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0A5A4-165E-4964-8A65-48519FD09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3FD24-27A7-4E1D-89CB-2FC855931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DA06F-F928-4E5A-A0B3-38971D51D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A573D-E038-45F3-A2F8-A524D078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B98E8-889C-4516-AEBE-5DEEDE110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0043D-3585-4F65-BDD6-AD4772B1D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82447-A730-4EB5-A549-6D14527E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BD360-C06F-48B6-A531-034DA619D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9A43C-AD9C-4D2A-B230-1B8E01345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3C3D39-6F3F-4A2F-868C-11F9643645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F50BB-4BF6-4AF1-BFCE-820404DB8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BC660-05A2-488A-9DE2-E492AB4D0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298A0-9A43-448B-99E6-1224152B8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B680F-935F-456D-BB5E-216D7894A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DA2BD-E1D1-4553-BA32-E44B20BA2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C2874-35C3-4239-A8E0-C4AB37C04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2BE8A-8420-4B26-B7A1-95C76C5D6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3F73C-ECF3-427E-AF5B-C07D6F490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5C537-8649-41EF-98D7-A201A4251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F8F5AF-CF98-4CAA-A9C2-316E00FC4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E0DA1-3D6D-464E-8DE7-2BB0BB45F4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839E3-7667-4C10-ADD2-44C6828581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9B652-9A7B-4746-A1E6-BAE865CB0F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B48C2-1249-47AC-B9F0-AAB686F72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0377C-BB85-4A7E-89D5-2E76FA48A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3A2B-34FA-4CAA-97ED-BFB50CEB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B0D4F6-2EF8-4B15-84CD-C63EE03D1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1EF8A-BB26-4190-A85B-E3CA321D8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55C408-7D37-409B-B7BD-B175978A8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38A55-80A7-44D6-840F-30304100B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66C18-D22C-47BE-BC0A-9F170063D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1041D-4CBF-4C24-8394-3655CEBA8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5281C-4861-4062-906A-0EED55DF98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8F0320-05E5-4606-892D-3FBAB05DD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B98A3D-44FE-4861-B4D7-D2AFA556A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826B2-EE06-4E96-8BAD-81BE1EA628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F523-405C-4679-A6A7-098928094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72E49-E62C-49BE-836B-92101D8E5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431DD-2A08-4392-A4F3-5F188072C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D8062-8A68-460D-82ED-D65C02A0E3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1907C8-D2FC-41B5-8BE8-52265EBCC2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6269A-4C74-4133-A152-595D40C87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6FB33-F6DB-42CF-B0D4-4673943688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C7033-AAF5-4C3E-8134-6CA249FBF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BF371-9B71-4502-8F57-06BAE0A04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5D6AE-053C-407E-B476-A03DE3380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C7EB86-E283-48A4-8F27-1112950E6E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6E35B-5BC0-4B6E-A63C-130B65749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03E758-2DBB-4982-9540-7BA7D50B54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8C087-555F-4E8E-8AB5-6799177A1F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5BAB3-D566-427A-BB49-9E6A6F394C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F4789-05F2-487D-B3E5-FF90AAD8B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45883-85FB-43FA-9830-4A54659C3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251E5-7511-42F3-9931-F71CFDF00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C62F9-6F2C-4DCE-9445-7775A9C6C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8F5EB-744F-4EF7-BD3A-327499389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68282-9CB2-43F3-9168-A90085645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90598-A00E-4349-A341-EE2EA7AB0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A894-288A-44F1-97DA-03431EF0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C0544-203A-4F78-9A11-731D2EAAE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FCA511-06FE-41FB-9EFC-AADCDE9187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80B05-D548-4D36-8747-256130CCD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B855A-1FF2-4BF8-890F-44934997AE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C0061-6D8A-43F7-BF65-AF54561B5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DFDE0-B8DB-4E81-9091-1E8994C24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79E197-FC91-4E1E-8E44-EEDB370AF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AE23A-B959-437A-908C-9132A6E10F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876FB-D643-48B0-96F2-161C18955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9E9416-AE7E-466E-B800-7292783F0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F02F-8288-4EE1-9FB9-DDB271E5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F6C40-A3B1-424A-AF1B-FFC4B25C4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D10FC-8149-4383-B452-ED18A0619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5BF3D-F6A2-4A80-A220-D9E8D920E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150551-ECEF-464A-8489-273C46A0FF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65861E-C695-47BE-9233-4E582A9BF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FE68-7912-4CDE-93A1-224FD3605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DA3F-3A8E-4BC8-92D2-70CF2B9596D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EE69-4143-45D9-AB21-34544381BA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DC8E-D61F-458F-AE0A-E0A8DC944AC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2228-D36A-4F62-8852-881081CBB38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549A-77F2-457D-8C54-AB452D27C52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06EE-CE50-4EB5-A911-E7454418C80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1837-E7F7-4A74-874E-2EBCCE18EE2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file:///Buzz%20Lightyear%20Crime%20Scene%20Lab.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y: Mick Sumner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graphicFrame>
        <p:nvGraphicFramePr>
          <p:cNvPr id="322" name=""/>
          <p:cNvGraphicFramePr/>
          <p:nvPr/>
        </p:nvGraphicFramePr>
        <p:xfrm>
          <a:off x="457200" y="1600200"/>
          <a:ext cx="8345520" cy="3505320"/>
        </p:xfrm>
        <a:graphic>
          <a:graphicData uri="http://schemas.openxmlformats.org/drawingml/2006/table">
            <a:tbl>
              <a:tblPr/>
              <a:tblGrid>
                <a:gridCol w="1371600"/>
                <a:gridCol w="1371600"/>
                <a:gridCol w="1371600"/>
                <a:gridCol w="1371600"/>
                <a:gridCol w="1487520"/>
                <a:gridCol w="1371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Wra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lle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las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or 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um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licks o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ronz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n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2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lfu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3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it brea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lv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all of the data he found that the mystery substance matched the data of zinc. The big give away for him was the dens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graphicFrame>
        <p:nvGraphicFramePr>
          <p:cNvPr id="326" name=""/>
          <p:cNvGraphicFramePr/>
          <p:nvPr/>
        </p:nvGraphicFramePr>
        <p:xfrm>
          <a:off x="457200" y="1600200"/>
          <a:ext cx="8345520" cy="3749760"/>
        </p:xfrm>
        <a:graphic>
          <a:graphicData uri="http://schemas.openxmlformats.org/drawingml/2006/table">
            <a:tbl>
              <a:tblPr/>
              <a:tblGrid>
                <a:gridCol w="1371600"/>
                <a:gridCol w="1371600"/>
                <a:gridCol w="1371600"/>
                <a:gridCol w="1487520"/>
                <a:gridCol w="1371600"/>
                <a:gridCol w="137160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re-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st-squeezed ma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8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igh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7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noticeable ch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8% fat-fr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5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br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hot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 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001 g/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dark 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Mick compared results he saw that the crime scene hotdog data matched the plain pork hotdog. He saw that they had all of the same result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189000" y="152280"/>
            <a:ext cx="8504280" cy="12621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sity-1. got the objects mass              Malleable- 1. bent metal             </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2. got the objects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3. divided mass by volum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ductivity-1. placed the conductivity meter on and read the light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uster-1. saw how shiny it wa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activity-1. used something to get a reaction</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lubility-1. poured water to see if it dissolved.</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189000" y="152280"/>
            <a:ext cx="8504280" cy="1262160"/>
          </a:xfrm>
          <a:prstGeom prst="rect">
            <a:avLst/>
          </a:prstGeom>
          <a:ln w="0">
            <a:noFill/>
          </a:ln>
        </p:spPr>
      </p:pic>
      <p:sp>
        <p:nvSpPr>
          <p:cNvPr id="33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8803"/>
                </a:solidFill>
                <a:uFillTx/>
                <a:latin typeface="Corbel"/>
                <a:hlinkClick r:id="rId2"/>
              </a:rPr>
              <a:t>http://www.sciencedaily.com/releases/2008/06/080602103331.ht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the end Mick and his class saw that the crime scene objects all matched the objects that Sponge-Bob Square-Pants. He and his classmates know this because he has pork, zinc, sucrose, and wat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Buzz Lightyear, a beloved character from Disney was found poisoned by one of twenty suspects. He and Woody were starting a cooking show and invited other cartoons to join. The cartoons had to bring four main items. Mick’s class ran tests to find the crime scene of each item. They ran tests on all of the four things which are:</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liquid for a drink</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hite powder for a desert</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y of three types of hotdog</a:t>
            </a:r>
            <a:endParaRPr b="0" lang="en-US" sz="2400" spc="-1" strike="noStrike">
              <a:solidFill>
                <a:srgbClr val="000000"/>
              </a:solidFill>
              <a:latin typeface="Corbel"/>
            </a:endParaRPr>
          </a:p>
          <a:p>
            <a:pPr marL="411480" indent="-299520">
              <a:buClr>
                <a:srgbClr val="7fd13b"/>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wrap to put the hotdog in</a:t>
            </a:r>
            <a:endParaRPr b="0" lang="en-US" sz="24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class ran many tests on these and finally found the answer.</a:t>
            </a:r>
            <a:endParaRPr b="0" lang="en-US" sz="2400" spc="-1" strike="noStrike">
              <a:solidFill>
                <a:srgbClr val="000000"/>
              </a:solidFill>
              <a:latin typeface="Corbel"/>
            </a:endParaRPr>
          </a:p>
          <a:p>
            <a:pPr marL="411480" indent="-299520">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ck had a hypothesis as to who did it. His hypothesis was that it was Luke Skywalker. He thought this because the things that Luke brought which were, salt water, aluminum, sodium polyacrylate, and a ft free hot-dog, looked like the things he found at the crime sce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46160"/>
            <a:ext cx="8504280" cy="1261800"/>
          </a:xfrm>
          <a:prstGeom prst="rect">
            <a:avLst/>
          </a:prstGeom>
          <a:ln w="0">
            <a:noFill/>
          </a:ln>
        </p:spPr>
      </p:pic>
      <p:pic>
        <p:nvPicPr>
          <p:cNvPr id="310" name="TextBox 3" descr=""/>
          <p:cNvPicPr/>
          <p:nvPr/>
        </p:nvPicPr>
        <p:blipFill>
          <a:blip r:embed="rId2"/>
          <a:stretch/>
        </p:blipFill>
        <p:spPr>
          <a:xfrm>
            <a:off x="1365120" y="1773360"/>
            <a:ext cx="5784840" cy="40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nd lenses, triple beam balance, spoons, stirring rods, matches, paper cups, iodine, hot plates,  well-plate, beakers, eyedroppers, sodium bicarbonate, conductivity meters, graduated cylinder, hydrochloric acid, goggles, forcep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36360"/>
            <a:ext cx="8504280" cy="1036440"/>
          </a:xfrm>
          <a:prstGeom prst="rect">
            <a:avLst/>
          </a:prstGeom>
          <a:ln w="0">
            <a:noFill/>
          </a:ln>
        </p:spPr>
      </p:pic>
      <p:graphicFrame>
        <p:nvGraphicFramePr>
          <p:cNvPr id="314" name=""/>
          <p:cNvGraphicFramePr/>
          <p:nvPr/>
        </p:nvGraphicFramePr>
        <p:xfrm>
          <a:off x="82440" y="914400"/>
          <a:ext cx="9061560" cy="5673600"/>
        </p:xfrm>
        <a:graphic>
          <a:graphicData uri="http://schemas.openxmlformats.org/drawingml/2006/table">
            <a:tbl>
              <a:tblPr/>
              <a:tblGrid>
                <a:gridCol w="1175040"/>
                <a:gridCol w="1176120"/>
                <a:gridCol w="1174680"/>
                <a:gridCol w="1176480"/>
                <a:gridCol w="1487520"/>
                <a:gridCol w="1176120"/>
                <a:gridCol w="16956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rin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Dens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l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oat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 or 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alt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ineg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azy 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trong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xtreme Bubbl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a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slightly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ur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grape 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izz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emona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inks in Wa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weet sme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Liqu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rea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t flamm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89000" y="152280"/>
            <a:ext cx="8504280" cy="126216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evidence Mick figured out that the crime scene drink had to be water. He knew this because all the tests matched up and he also knew the density of water was on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graphicFrame>
        <p:nvGraphicFramePr>
          <p:cNvPr id="318" name=""/>
          <p:cNvGraphicFramePr/>
          <p:nvPr/>
        </p:nvGraphicFramePr>
        <p:xfrm>
          <a:off x="228600" y="1600200"/>
          <a:ext cx="8675640" cy="3941640"/>
        </p:xfrm>
        <a:graphic>
          <a:graphicData uri="http://schemas.openxmlformats.org/drawingml/2006/table">
            <a:tbl>
              <a:tblPr/>
              <a:tblGrid>
                <a:gridCol w="1371600"/>
                <a:gridCol w="1371600"/>
                <a:gridCol w="1487520"/>
                <a:gridCol w="1519200"/>
                <a:gridCol w="1371600"/>
                <a:gridCol w="1554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Pow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Solubi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Con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el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Rea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Flamm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ucr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aking So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Bubbles a 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urned yel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Polyacry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 Mi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lum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d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scorbic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ery 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ste li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rime Scene Powd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9000" y="152280"/>
            <a:ext cx="850428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aring all of the data Mick gained he came to the conclusion that the substance had to be sucrose because he saw that all of the tests matched the crime scene powde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18:24Z</dcterms:created>
  <dc:creator>200174951</dc:creator>
  <dc:description/>
  <dc:language>en-US</dc:language>
  <cp:lastModifiedBy>200174951</cp:lastModifiedBy>
  <dcterms:modified xsi:type="dcterms:W3CDTF">2010-10-06T13:14:20Z</dcterms:modified>
  <cp:revision>15</cp:revision>
  <dc:subject/>
  <dc:title>Buzz Lightyear Crime Scene Lab</dc:title>
</cp:coreProperties>
</file>